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54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62120" y="412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5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48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212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4480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54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9012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1776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6212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9012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1776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54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76212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54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54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4480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54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6212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5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4480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76212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5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6212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5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448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4480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5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448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62120" y="412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54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762120" y="412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54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48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74480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5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9012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1776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76212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9012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1776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5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54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4480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54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6212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5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480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6212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54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48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4480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5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48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62120" y="412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5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54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54"/>
              </a:buClr>
              <a:buSzPct val="75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6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5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5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Times New Roman"/>
              </a:rPr>
              <a:t>Early Civilizations in Afric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97880" y="6094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54"/>
                </a:solidFill>
                <a:latin typeface="Times New Roman"/>
              </a:rPr>
              <a:t>The Coming of Islam (cont.’d)</a:t>
            </a:r>
            <a:endParaRPr b="0" lang="en-US" sz="4400" spc="-1" strike="noStrike">
              <a:solidFill>
                <a:srgbClr val="00005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lvl="1" marL="542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90000"/>
              </a:lnSpc>
              <a:spcBef>
                <a:spcPts val="499"/>
              </a:spcBef>
              <a:buClr>
                <a:srgbClr val="000054"/>
              </a:buClr>
              <a:buSzPct val="75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th Af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SzPct val="6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ab forces seized the Nile delta of Egypt in 64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SzPct val="6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capital at Cai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SzPct val="6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abs welcome due to high taxes and periodic persecution of Coptic Christians by Byzant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SzPct val="6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abs seize Carthage in 690, called Al Maghri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SzPct val="6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rbers resisted for many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90000"/>
              </a:lnSpc>
              <a:spcBef>
                <a:spcPts val="499"/>
              </a:spcBef>
              <a:buClr>
                <a:srgbClr val="000054"/>
              </a:buClr>
              <a:buSzPct val="75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Kingdom of Ethiopia: A Christian Island in a Muslim 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SzPct val="6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xum began to dec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SzPct val="6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ift in trade routes and overexploited agricul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SzPct val="6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lim trading states on the African coast of the Red Sea transforming Axum into an isolated agricultural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34120" indent="-166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urce of ivory, resins, and sla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SzPct val="6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tacked by Muslim state of Adal in early 14th centu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SzPct val="6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came a Christian state in mid-twelfth centu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54"/>
                </a:solidFill>
                <a:latin typeface="Times New Roman"/>
              </a:rPr>
              <a:t>East Africa: The Land of Zanj</a:t>
            </a:r>
            <a:br>
              <a:rPr sz="4000"/>
            </a:br>
            <a:endParaRPr b="0" lang="en-US" sz="4000" spc="-1" strike="noStrike">
              <a:solidFill>
                <a:srgbClr val="00005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54"/>
              </a:buClr>
              <a:buSzPct val="75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gend says a Persian and his six sons founded the trading centers on the coast of East Af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54"/>
              </a:buClr>
              <a:buSzPct val="75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f-governing city-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c6600"/>
              </a:buClr>
              <a:buSzPct val="6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de with the inter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c6600"/>
              </a:buClr>
              <a:buSzPct val="6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de with the Indian Ocean, China, and along the co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54"/>
              </a:buClr>
              <a:buSzPct val="75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xed African-Arab cul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c6600"/>
              </a:buClr>
              <a:buSzPct val="6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xed culture and language called Swahi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c6600"/>
              </a:buClr>
              <a:buSzPct val="6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ion to Islam gr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5899320"/>
            <a:ext cx="914400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698400" y="1906560"/>
            <a:ext cx="4635360" cy="4950720"/>
            <a:chOff x="698400" y="1906560"/>
            <a:chExt cx="4635360" cy="4950720"/>
          </a:xfrm>
        </p:grpSpPr>
        <p:pic>
          <p:nvPicPr>
            <p:cNvPr id="107" name="" descr=""/>
            <p:cNvPicPr/>
            <p:nvPr/>
          </p:nvPicPr>
          <p:blipFill>
            <a:blip r:embed="rId2"/>
            <a:stretch/>
          </p:blipFill>
          <p:spPr>
            <a:xfrm>
              <a:off x="886680" y="1906560"/>
              <a:ext cx="4447080" cy="473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 rot="16200000">
              <a:off x="-1312560" y="4622760"/>
              <a:ext cx="4245480" cy="22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©2004 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Wadsworth</a:t>
              </a: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, a division of Thomson Learning, Inc.  Thomson Learning</a:t>
              </a:r>
              <a:r>
                <a:rPr b="0" lang="en-US" sz="600" spc="-1" strike="noStrike" baseline="-25000">
                  <a:solidFill>
                    <a:srgbClr val="000000"/>
                  </a:solidFill>
                  <a:latin typeface="Times New Roman"/>
                </a:rPr>
                <a:t>™</a:t>
              </a: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 is a trademark used herein under license.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The Emergence of States in Africa</a:t>
            </a:r>
            <a:br>
              <a:rPr sz="4400"/>
            </a:br>
            <a:endParaRPr b="0" lang="en-US" sz="4400" spc="-1" strike="noStrike">
              <a:solidFill>
                <a:srgbClr val="00005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-457200" y="457200"/>
            <a:ext cx="8381880" cy="8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54"/>
                </a:solidFill>
                <a:latin typeface="Times New Roman"/>
              </a:rPr>
              <a:t>The States of West Africa</a:t>
            </a:r>
            <a:br>
              <a:rPr sz="4400"/>
            </a:br>
            <a:endParaRPr b="0" lang="en-US" sz="4400" spc="-1" strike="noStrike">
              <a:solidFill>
                <a:srgbClr val="000054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601"/>
              </a:spcBef>
              <a:buClr>
                <a:srgbClr val="000054"/>
              </a:buClr>
              <a:buSzPct val="75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ansion of Islam has impact on political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90000"/>
              </a:lnSpc>
              <a:spcBef>
                <a:spcPts val="601"/>
              </a:spcBef>
              <a:buClr>
                <a:srgbClr val="000054"/>
              </a:buClr>
              <a:buSzPct val="75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oduction of Arabic for a wri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90000"/>
              </a:lnSpc>
              <a:spcBef>
                <a:spcPts val="601"/>
              </a:spcBef>
              <a:buClr>
                <a:srgbClr val="000054"/>
              </a:buClr>
              <a:buSzPct val="75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h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-20268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SzPct val="6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jority of people were far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-20268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SzPct val="6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mary reason for Ghana’s growth was g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-20268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SzPct val="6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-Saharan trade with Ghana becomes very impor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-20268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SzPct val="6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vine right monarchy assisted by hereditary aristocr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-20268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SzPct val="6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ings did not convert to Islam, but many of their subjects d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90000"/>
              </a:lnSpc>
              <a:spcBef>
                <a:spcPts val="601"/>
              </a:spcBef>
              <a:buClr>
                <a:srgbClr val="000054"/>
              </a:buClr>
              <a:buSzPct val="75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-20268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SzPct val="6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inous wars by the twelfth century in Gh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11440" indent="-162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states of Mali, Songhai, Kanem-Bornu, and Hausa st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-20268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SzPct val="6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eatest state was M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11440" indent="-162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ld tr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11440" indent="-162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rming in the savanna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11440" indent="-162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sa Musa (1312-1337), king, encouraged Isl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11440" indent="-162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buktu becomes center of trade, religion and lear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762120" y="1736640"/>
            <a:ext cx="7924680" cy="4740120"/>
            <a:chOff x="762120" y="1736640"/>
            <a:chExt cx="7924680" cy="4740120"/>
          </a:xfrm>
        </p:grpSpPr>
        <p:pic>
          <p:nvPicPr>
            <p:cNvPr id="114" name="" descr=""/>
            <p:cNvPicPr/>
            <p:nvPr/>
          </p:nvPicPr>
          <p:blipFill>
            <a:blip r:embed="rId2"/>
            <a:stretch/>
          </p:blipFill>
          <p:spPr>
            <a:xfrm>
              <a:off x="914400" y="1736640"/>
              <a:ext cx="7772400" cy="451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 rot="16200000">
              <a:off x="-1412640" y="4078440"/>
              <a:ext cx="4573440" cy="22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©2004 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Wadsworth</a:t>
              </a: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, a division of Thomson Learning, Inc.  Thomson Learning</a:t>
              </a:r>
              <a:r>
                <a:rPr b="0" lang="en-US" sz="600" spc="-1" strike="noStrike" baseline="-25000">
                  <a:solidFill>
                    <a:srgbClr val="000000"/>
                  </a:solidFill>
                  <a:latin typeface="Times New Roman"/>
                </a:rPr>
                <a:t>™</a:t>
              </a: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 is a trademark used herein under license.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Trans-Saharan Trade Routes</a:t>
            </a:r>
            <a:endParaRPr b="0" lang="en-US" sz="4400" spc="-1" strike="noStrike">
              <a:solidFill>
                <a:srgbClr val="00005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-990720" y="533520"/>
            <a:ext cx="7925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54"/>
                </a:solidFill>
                <a:latin typeface="Times New Roman"/>
              </a:rPr>
              <a:t>States and Stateless Societies in Southern Africa</a:t>
            </a:r>
            <a:br>
              <a:rPr sz="3400"/>
            </a:br>
            <a:endParaRPr b="0" lang="en-US" sz="4000" spc="-1" strike="noStrike">
              <a:solidFill>
                <a:srgbClr val="00005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54"/>
              </a:buClr>
              <a:buSzPct val="75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basin of the Congo River to the Cape of Good H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54"/>
              </a:buClr>
              <a:buSzPct val="75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less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54"/>
              </a:buClr>
              <a:buSzPct val="75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ess made with regional tr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54"/>
              </a:buClr>
              <a:buSzPct val="75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imbabwe (sacred hou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SzPct val="6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ital known as Great Zimbab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SzPct val="6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ed from trade between interior and co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SzPct val="6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idence of great wealth, but Great Zimbabwe abandon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54"/>
              </a:buClr>
              <a:buSzPct val="75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hoi and the San (Bushman)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54"/>
                </a:solidFill>
                <a:latin typeface="Times New Roman"/>
              </a:rPr>
              <a:t>African Society</a:t>
            </a:r>
            <a:endParaRPr b="0" lang="en-US" sz="4400" spc="-1" strike="noStrike">
              <a:solidFill>
                <a:srgbClr val="00005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54"/>
              </a:buClr>
              <a:buSzPct val="75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rican Socie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6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ban l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6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llage L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6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le of wo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6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a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54"/>
                </a:solidFill>
                <a:latin typeface="Times New Roman"/>
              </a:rPr>
              <a:t>African Culture</a:t>
            </a:r>
            <a:br>
              <a:rPr sz="4400"/>
            </a:br>
            <a:endParaRPr b="0" lang="en-US" sz="4400" spc="-1" strike="noStrike">
              <a:solidFill>
                <a:srgbClr val="00005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000054"/>
              </a:buClr>
              <a:buSzPct val="75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inting and Sculp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2640" indent="-19692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SzPct val="6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ck paintings, wood carving, pottery, metal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000054"/>
              </a:buClr>
              <a:buSzPct val="75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ic and 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2640" indent="-19692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SzPct val="6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ten served religious purpo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2640" indent="-19692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SzPct val="6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de variety of instr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2640" indent="-19692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SzPct val="6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voice and instr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2640" indent="-19692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SzPct val="6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ic produced for social rituals and educational purpo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000054"/>
              </a:buClr>
              <a:buSzPct val="75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2640" indent="-19692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SzPct val="6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ram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2640" indent="-19692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SzPct val="6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ne pill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2640" indent="-19692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SzPct val="6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ne building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2640" indent="-19692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SzPct val="6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times reflected Moorish sty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000054"/>
              </a:buClr>
              <a:buSzPct val="75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t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2640" indent="-19692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SzPct val="6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ten works did not exist in the early traditional peri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2640" indent="-19692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SzPct val="6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fessional storytellers, b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2640" indent="-19692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SzPct val="6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ortance of women in passing down oral trad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54"/>
                </a:solidFill>
                <a:latin typeface="Times New Roman"/>
              </a:rPr>
              <a:t>Discussion Questions</a:t>
            </a:r>
            <a:endParaRPr b="0" lang="en-US" sz="4400" spc="-1" strike="noStrike">
              <a:solidFill>
                <a:srgbClr val="00005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54"/>
              </a:buClr>
              <a:buSzPct val="75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is Axum a “bridge” between East African society and the culture of Southern Arabi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54"/>
              </a:buClr>
              <a:buSzPct val="75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history of the geography and climate of the Saha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54"/>
              </a:buClr>
              <a:buSzPct val="75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is the Sahara both a barrier and a highway in the development of Sub-Saharan Afric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54"/>
              </a:buClr>
              <a:buSzPct val="75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re the East African states and the West African states alike? How are they differ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789120" y="1295280"/>
            <a:ext cx="5154120" cy="5679720"/>
            <a:chOff x="789120" y="1295280"/>
            <a:chExt cx="5154120" cy="5679720"/>
          </a:xfrm>
        </p:grpSpPr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946080" y="1295280"/>
              <a:ext cx="4997160" cy="541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 rot="16200000">
              <a:off x="-1386000" y="4576320"/>
              <a:ext cx="4573800" cy="22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©2004 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Wadsworth</a:t>
              </a: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, a division of Thomson Learning, Inc.  Thomson Learning</a:t>
              </a:r>
              <a:r>
                <a:rPr b="0" lang="en-US" sz="600" spc="-1" strike="noStrike" baseline="-25000">
                  <a:solidFill>
                    <a:srgbClr val="000000"/>
                  </a:solidFill>
                  <a:latin typeface="Times New Roman"/>
                </a:rPr>
                <a:t>™</a:t>
              </a: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 is a trademark used herein under license.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The Continent of Africa</a:t>
            </a:r>
            <a:endParaRPr b="0" lang="en-US" sz="4400" spc="-1" strike="noStrike">
              <a:solidFill>
                <a:srgbClr val="00005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457200"/>
            <a:ext cx="8686800" cy="8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54"/>
                </a:solidFill>
                <a:latin typeface="Times New Roman"/>
              </a:rPr>
              <a:t>The Emergence of Civilization</a:t>
            </a:r>
            <a:br>
              <a:rPr sz="4400"/>
            </a:br>
            <a:endParaRPr b="0" lang="en-US" sz="4400" spc="-1" strike="noStrike">
              <a:solidFill>
                <a:srgbClr val="00005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54"/>
              </a:buClr>
              <a:buSzPct val="75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SzPct val="6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,000 miles lo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SzPct val="6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hara is the great div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54"/>
              </a:buClr>
              <a:buSzPct val="75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SzPct val="6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riculture may have first appeared in Nubia rather than the lower Nile val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SzPct val="6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haps the site of the first true African king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SzPct val="6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bia became an Egyptian tribut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SzPct val="6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integration of the Egyptian New Kingdom (end of second millennium B.C.E.) resulted in the independent state of K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ush became a major trading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ttle known about the society of Ku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ms to have been widespread material prospe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700200" y="1380960"/>
            <a:ext cx="5091120" cy="5476680"/>
            <a:chOff x="700200" y="1380960"/>
            <a:chExt cx="5091120" cy="5476680"/>
          </a:xfrm>
        </p:grpSpPr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879840" y="1380960"/>
              <a:ext cx="4911480" cy="51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 rot="16200000">
              <a:off x="-1474560" y="4459320"/>
              <a:ext cx="4573440" cy="22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©2004 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Wadsworth</a:t>
              </a: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, a division of Thomson Learning, Inc.  Thomson Learning</a:t>
              </a:r>
              <a:r>
                <a:rPr b="0" lang="en-US" sz="600" spc="-1" strike="noStrike" baseline="-25000">
                  <a:solidFill>
                    <a:srgbClr val="000000"/>
                  </a:solidFill>
                  <a:latin typeface="Times New Roman"/>
                </a:rPr>
                <a:t>™</a:t>
              </a: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 is a trademark used herein under license.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Ancient Ethiopia and Nubia</a:t>
            </a:r>
            <a:br>
              <a:rPr sz="4400"/>
            </a:br>
            <a:endParaRPr b="0" lang="en-US" sz="4400" spc="-1" strike="noStrike">
              <a:solidFill>
                <a:srgbClr val="00005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54"/>
                </a:solidFill>
                <a:latin typeface="Times New Roman"/>
              </a:rPr>
              <a:t>Axum, Son of Saba</a:t>
            </a:r>
            <a:br>
              <a:rPr sz="4400"/>
            </a:br>
            <a:endParaRPr b="0" lang="en-US" sz="4400" spc="-1" strike="noStrike">
              <a:solidFill>
                <a:srgbClr val="000054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54"/>
              </a:buClr>
              <a:buSzPct val="75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quered Kush in first millennium C.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54"/>
              </a:buClr>
              <a:buSzPct val="75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xum founded as a colony of the kingdom of Saba (Sheba) in first millennium B.C.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SzPct val="6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ba a trading state, goods from South Asia to the Mediterran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54"/>
              </a:buClr>
              <a:buSzPct val="75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xum continued the trade after Saba decl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SzPct val="6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 on trade routes responsible for prospe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SzPct val="6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ed for control of ivory tr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54"/>
              </a:buClr>
              <a:buSzPct val="75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lowed Egyptian Christianity (Copt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SzPct val="6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uld be renamed Ethiop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SzPct val="6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ed the “hermit kingdom” by Europe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72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54"/>
                </a:solidFill>
                <a:latin typeface="Times New Roman"/>
              </a:rPr>
              <a:t>The Sahara and Its Environs</a:t>
            </a:r>
            <a:endParaRPr b="0" lang="en-US" sz="4400" spc="-1" strike="noStrike">
              <a:solidFill>
                <a:srgbClr val="000054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54"/>
              </a:buClr>
              <a:buSzPct val="75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8000 to 4000 B.C.E. a warm, humid climate that created lakes, ponds, grasslands, and g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54"/>
              </a:buClr>
              <a:buSzPct val="75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ccation began in 6th and 5th millennium B.C.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54"/>
              </a:buClr>
              <a:buSzPct val="75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3000 B.C.E. and farming spread to the savannas to the south; Berbers were intermediar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54"/>
              </a:buClr>
              <a:buSzPct val="75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thage became focal point of trans-Saharan tr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54"/>
              </a:buClr>
              <a:buSzPct val="75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onworking by the people along the Niger River in the middle of the first millennium B.C.E., Nok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54"/>
                </a:solidFill>
                <a:latin typeface="Times New Roman"/>
              </a:rPr>
              <a:t>East and Southern Africa</a:t>
            </a:r>
            <a:br>
              <a:rPr sz="4000"/>
            </a:br>
            <a:endParaRPr b="0" lang="en-US" sz="4000" spc="-1" strike="noStrike">
              <a:solidFill>
                <a:srgbClr val="00005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54"/>
              </a:buClr>
              <a:buSzPct val="75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ntu language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cc6600"/>
              </a:buClr>
              <a:buSzPct val="6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oduced cultivation of crops and ironwor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cc6600"/>
              </a:buClr>
              <a:buSzPct val="6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antu settled into rural commun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54"/>
              </a:buClr>
              <a:buSzPct val="75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 tr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cc6600"/>
              </a:buClr>
              <a:buSzPct val="6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gyptians may have arrived looking for trade go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cc6600"/>
              </a:buClr>
              <a:buSzPct val="6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hapta a commercial metropol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cc6600"/>
              </a:buClr>
              <a:buSzPct val="6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de across the Indian Oc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54"/>
              </a:buClr>
              <a:buSzPct val="75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hoisan language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723960" y="1295280"/>
            <a:ext cx="4991040" cy="5625720"/>
            <a:chOff x="723960" y="1295280"/>
            <a:chExt cx="4991040" cy="5625720"/>
          </a:xfrm>
        </p:grpSpPr>
        <p:pic>
          <p:nvPicPr>
            <p:cNvPr id="96" name="" descr=""/>
            <p:cNvPicPr/>
            <p:nvPr/>
          </p:nvPicPr>
          <p:blipFill>
            <a:blip r:embed="rId2"/>
            <a:stretch/>
          </p:blipFill>
          <p:spPr>
            <a:xfrm>
              <a:off x="882720" y="1295280"/>
              <a:ext cx="4832280" cy="53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 rot="16200000">
              <a:off x="-1451160" y="4522320"/>
              <a:ext cx="4573800" cy="22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©2004 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Wadsworth</a:t>
              </a: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, a division of Thomson Learning, Inc.  Thomson Learning</a:t>
              </a:r>
              <a:r>
                <a:rPr b="0" lang="en-US" sz="600" spc="-1" strike="noStrike" baseline="-25000">
                  <a:solidFill>
                    <a:srgbClr val="000000"/>
                  </a:solidFill>
                  <a:latin typeface="Times New Roman"/>
                </a:rPr>
                <a:t>™</a:t>
              </a: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 is a trademark used herein under license.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Ancient Africa</a:t>
            </a:r>
            <a:br>
              <a:rPr sz="4400"/>
            </a:br>
            <a:endParaRPr b="0" lang="en-US" sz="4400" spc="-1" strike="noStrike">
              <a:solidFill>
                <a:srgbClr val="00005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54"/>
                </a:solidFill>
                <a:latin typeface="Times New Roman"/>
              </a:rPr>
              <a:t>The Coming of Islam</a:t>
            </a:r>
            <a:endParaRPr b="0" lang="en-US" sz="4400" spc="-1" strike="noStrike">
              <a:solidFill>
                <a:srgbClr val="00005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54"/>
              </a:buClr>
              <a:buSzPct val="75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rican Religious Beliefs before Isl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SzPct val="6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belie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 creator g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7960" indent="-20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times accompanied by a pantheon of lesser g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believed in an afterlife in which ancestral souls floated in the atmosphere through eter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sely connected to importance of ancestors and line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tuals very impor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SzPct val="6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llenge by Islam but not always replaced; synthes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3T19:49:18Z</dcterms:created>
  <dc:creator>Josh Barinstein</dc:creator>
  <dc:description/>
  <dc:language>en-US</dc:language>
  <cp:lastModifiedBy>ripkensa</cp:lastModifiedBy>
  <dcterms:modified xsi:type="dcterms:W3CDTF">2009-11-01T15:07:57Z</dcterms:modified>
  <cp:revision>34</cp:revision>
  <dc:subject/>
  <dc:title>Chapter 8 Early Civilizations in Africa</dc:title>
</cp:coreProperties>
</file>